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ED8F7-A6CC-42A7-89BC-4D9DC249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B78EE-3B58-49F1-93EF-76254B14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326A6-287B-4C82-8C22-B444EBFB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399A6-1E9A-4341-A4A1-4A77DB2D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C17B-47CF-4733-9DDD-3FD29FF6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8E19-E7C6-4465-9F2A-B5E5846B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DFBF-C049-4A23-BFB1-1F6AA25F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D17C-4C08-4D01-A45A-592EFE15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4355-8627-4FDB-A00C-98D4AF26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B428-0E09-42FE-82A3-0E2A3278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EEF2-B1AB-449C-BD93-3FE70CA9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C3DC3-D58F-4F2A-A8C0-2D80F9FE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B745-EC1C-4001-B79C-11CB5F44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F95F-21B9-41E6-8264-90CB49F9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2D68-C48F-4392-AFAE-B8518870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1C71-74A4-45A0-95EE-751AE6F5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4C87-6BCA-4923-8D4F-C0F435F1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7BD08-FABF-4245-836A-043C80CF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B10AD-8B38-4DA8-BDD8-E149E378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420ED-4CFB-46DA-B0E6-4141BCDD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DE101-9B98-4DE7-8A8A-F2C5EA93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77F4D-44A3-4301-83F4-D842EE87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B3174-0754-4A74-B6B8-5C834669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ADD89-B66A-4530-95A8-39D44DD9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D864-CE57-4A52-91F0-2E7CEBC08F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69EE-7BA5-43D6-A8E5-4EC574B4FE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Luxembour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84720" y="5516280"/>
            <a:ext cx="2602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Garamond"/>
              </a:rPr>
              <a:t>Trabalho realizado por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Garamond"/>
              </a:rPr>
              <a:t>António Tavares n 2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Garamond"/>
              </a:rPr>
              <a:t>Samuel Duarte n 1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543480" cy="2276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Capital C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62864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Luxembou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0000" y="2205000"/>
            <a:ext cx="5826240" cy="4370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Population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1258920" y="2205000"/>
            <a:ext cx="662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Population (2009 est.): 491,775 (growth rate: 1.1%); birth rate: 11.7/1000; infant mortality rate: 4.5/1000; life expectancy: 79.3; density per sq km: 187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Languag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Language is German,French and Luxembour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How to get the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By c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By b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By pla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By tr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84360" y="1413000"/>
            <a:ext cx="26640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940360" y="1557360"/>
            <a:ext cx="2121120" cy="2120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16000" y="4076640"/>
            <a:ext cx="2903400" cy="217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859280" y="4292640"/>
            <a:ext cx="3089160" cy="2035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Photos of the Count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335640" cy="4000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75480" y="0"/>
            <a:ext cx="3368520" cy="3500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5715000" cy="36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4735800" cy="5715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Interesting places to visi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465280" cy="3284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9640" y="50133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Mullerth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24360" y="1341360"/>
            <a:ext cx="4648320" cy="324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211640" y="5157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Arden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9:23:37Z</dcterms:created>
  <dc:creator>Utilizador</dc:creator>
  <dc:description/>
  <dc:language>en-US</dc:language>
  <cp:lastModifiedBy>Utilizador</cp:lastModifiedBy>
  <dcterms:modified xsi:type="dcterms:W3CDTF">2009-11-11T12:56:41Z</dcterms:modified>
  <cp:revision>3</cp:revision>
  <dc:subject/>
  <dc:title>Luxembourg</dc:title>
</cp:coreProperties>
</file>